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E6C-5FFB-41C0-889E-0C4FAC7C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075-D7FF-454E-97FF-63D205F7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A2D-12D5-4162-892D-5AECF7E5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CA7-0582-44D3-A113-B8476A9D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988-860B-420D-9E7E-B891F929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9B5-DD3C-43F7-B7AE-9639EAF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D73-09E5-47FC-AD5A-B606EE27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074-960A-4F0C-8C47-814D8146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1F9-04BA-4324-8602-1D14CFD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AD8-3E90-451A-A4AA-2CE6254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108-7D05-4861-8CF8-6FC548E0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B2F-0C14-4ED6-B985-09F16DFD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1CC8-BFAD-4008-A0E2-B6A89842C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5280" cy="604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4 класс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кружающий мир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стениеводство в нашем кра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08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екой древности первобытный человек занимался охотой и собирательством. Ведь для того, чтобы жить , человеку надо есть. Успех охоты и собирательства во многом зависел от капризов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ажды женщины заметили, что в том месте, где обычно на каменной терке перетирали зерна. Выросли колоски с такими же зернами. Они догадались, что это проросли случайно рассыпанные зернышки. Попробовали специально рассыпать зерно – получилось, да еще как: где упало зерно, вырос целый колос, а то и несколько. Теперь уже можно выращивать зерна рядом с домом. А не бродить в поисках по лесам и лугам. Случалось так. Что мужчины. Убив на охоте дикую свинью. Приносили домой поросят. Детенышей помещали в пригон, кормили их, растили. Так возникли земледелие и ското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и годы, совершенствовался человек, совершенствовалось земледелие, все разнообразнее становились растения, которые выращивал человек. Вырастить хороший урожай – дело не простое, для этого очень много надо знать. Знать, когда пахать землю. Когда сажать. Поливать. Что необходимо растениям для хорошего роста. Когда убирать созревшие пл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азведение  культурных сельскохозяйственных растений и их выращивание отвечает растениевод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еводство – наука о разведении культурных сельскохозяйственных растений, а  также само такое ра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И. Оже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5"/>
          <p:cNvGrpSpPr/>
          <p:nvPr/>
        </p:nvGrpSpPr>
        <p:grpSpPr>
          <a:xfrm>
            <a:off x="395280" y="189000"/>
            <a:ext cx="8228880" cy="6262920"/>
            <a:chOff x="395280" y="189000"/>
            <a:chExt cx="8228880" cy="6262920"/>
          </a:xfrm>
        </p:grpSpPr>
        <p:cxnSp>
          <p:nvCxnSpPr>
            <p:cNvPr id="46" name="_s1028"/>
            <p:cNvCxnSpPr>
              <a:stCxn id="47" idx="3"/>
              <a:endCxn id="48" idx="2"/>
            </p:cNvCxnSpPr>
            <p:nvPr/>
          </p:nvCxnSpPr>
          <p:spPr>
            <a:xfrm flipV="1">
              <a:off x="4098240" y="1753920"/>
              <a:ext cx="411840" cy="156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4383360" y="187956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V="1">
              <a:off x="4509360" y="1753920"/>
              <a:ext cx="3240" cy="31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1503360" y="1879920"/>
              <a:ext cx="3132360" cy="2880720"/>
            </a:xfrm>
            <a:prstGeom prst="bentConnector3">
              <a:avLst>
                <a:gd name="adj1" fmla="val 5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275280" y="18900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астениевод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вощ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327528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лод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6155640" y="488628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вет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1629360" y="2537640"/>
              <a:ext cx="2468520" cy="15656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оле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еводство – это выращивание поле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вощеводство – это выращивание овощ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доводство – это выращивание плодов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водство – это выращивание цветочных культ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202"/>
          <p:cNvPicPr/>
          <p:nvPr/>
        </p:nvPicPr>
        <p:blipFill>
          <a:blip r:embed="rId1"/>
          <a:stretch/>
        </p:blipFill>
        <p:spPr>
          <a:xfrm>
            <a:off x="468360" y="1628640"/>
            <a:ext cx="7975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203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mg204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205"/>
          <p:cNvPicPr/>
          <p:nvPr/>
        </p:nvPicPr>
        <p:blipFill>
          <a:blip r:embed="rId1"/>
          <a:stretch/>
        </p:blipFill>
        <p:spPr>
          <a:xfrm>
            <a:off x="468360" y="1628640"/>
            <a:ext cx="813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7:21:17Z</dcterms:created>
  <dc:creator>User</dc:creator>
  <dc:description/>
  <dc:language>en-US</dc:language>
  <cp:lastModifiedBy>Owner</cp:lastModifiedBy>
  <dcterms:modified xsi:type="dcterms:W3CDTF">2012-06-01T02:44:25Z</dcterms:modified>
  <cp:revision>9</cp:revision>
  <dc:subject/>
  <dc:title>4 класс Окружающий мир. Растениеводство в нашем крае.</dc:title>
</cp:coreProperties>
</file>